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779268AE-2220-4BE2-9348-83D4050C0F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gothic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7F213EF9-CB1A-4BA1-81A6-BF81CDD178EF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 Angula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85840" indent="-285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1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117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mete ja raportite seoste näid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2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438120" y="1676520"/>
            <a:ext cx="855648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</a:t>
            </a: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880920" y="453600"/>
            <a:ext cx="7763040" cy="306360"/>
            <a:chOff x="880920" y="453600"/>
            <a:chExt cx="7763040" cy="306360"/>
          </a:xfrm>
        </p:grpSpPr>
        <p:sp>
          <p:nvSpPr>
            <p:cNvPr id="129" name="Line 4"/>
            <p:cNvSpPr/>
            <p:nvPr/>
          </p:nvSpPr>
          <p:spPr>
            <a:xfrm>
              <a:off x="880920" y="754200"/>
              <a:ext cx="77565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643960" y="4536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ldkonniti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i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brauseri-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Go, Perl, Ru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Swift,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o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it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bversion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radle, Webpack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ntegratsioonisüsteemid (Jenkins, Travis CL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9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eebitehnoloogiad: näide vahendi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ttps://codeburst.io/the-2018-web-developer-roadmap-826b1b806e8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905120" y="230040"/>
            <a:ext cx="4916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duse ja arendustöö põhimõt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id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hitektuurinäi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te tüübid eri vaadet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omineerivad programmeerimi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2286000" y="39600"/>
            <a:ext cx="4689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vaa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de kolmele osale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5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mis on fook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945-1970                       1970-1995                   1995-2020?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t-EE" sz="1800" spc="-1" strike="noStrike">
                <a:solidFill>
                  <a:srgbClr val="cc0000"/>
                </a:solidFill>
                <a:latin typeface="Bitstream Vera Sans"/>
              </a:rPr>
              <a:t>Riistvar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firma, avatud   -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6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167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levikus on rohkem värki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838080" y="603000"/>
            <a:ext cx="7763040" cy="306360"/>
            <a:chOff x="838080" y="603000"/>
            <a:chExt cx="7763040" cy="306360"/>
          </a:xfrm>
        </p:grpSpPr>
        <p:sp>
          <p:nvSpPr>
            <p:cNvPr id="172" name="Line 4"/>
            <p:cNvSpPr/>
            <p:nvPr/>
          </p:nvSpPr>
          <p:spPr>
            <a:xfrm>
              <a:off x="838080" y="903600"/>
              <a:ext cx="7756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 flipV="1">
              <a:off x="8601120" y="6030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1828800" y="3429000"/>
            <a:ext cx="291960" cy="297000"/>
            <a:chOff x="1828800" y="3429000"/>
            <a:chExt cx="291960" cy="297000"/>
          </a:xfrm>
        </p:grpSpPr>
        <p:sp>
          <p:nvSpPr>
            <p:cNvPr id="175" name="Freeform 7"/>
            <p:cNvSpPr/>
            <p:nvPr/>
          </p:nvSpPr>
          <p:spPr>
            <a:xfrm>
              <a:off x="1828800" y="3429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1828800" y="3429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2052720" y="34290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10"/>
          <p:cNvGrpSpPr/>
          <p:nvPr/>
        </p:nvGrpSpPr>
        <p:grpSpPr>
          <a:xfrm>
            <a:off x="5181480" y="2514600"/>
            <a:ext cx="292320" cy="297000"/>
            <a:chOff x="5181480" y="2514600"/>
            <a:chExt cx="292320" cy="297000"/>
          </a:xfrm>
        </p:grpSpPr>
        <p:sp>
          <p:nvSpPr>
            <p:cNvPr id="179" name="Freeform 11"/>
            <p:cNvSpPr/>
            <p:nvPr/>
          </p:nvSpPr>
          <p:spPr>
            <a:xfrm>
              <a:off x="5181480" y="25146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5181480" y="25146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5405400" y="2514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3200400" y="3581280"/>
            <a:ext cx="291960" cy="297000"/>
            <a:chOff x="3200400" y="3581280"/>
            <a:chExt cx="291960" cy="297000"/>
          </a:xfrm>
        </p:grpSpPr>
        <p:sp>
          <p:nvSpPr>
            <p:cNvPr id="183" name="Freeform 15"/>
            <p:cNvSpPr/>
            <p:nvPr/>
          </p:nvSpPr>
          <p:spPr>
            <a:xfrm>
              <a:off x="3200400" y="35812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200400" y="35812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424320" y="35812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4648320" y="3505320"/>
            <a:ext cx="291960" cy="296640"/>
            <a:chOff x="4648320" y="3505320"/>
            <a:chExt cx="291960" cy="296640"/>
          </a:xfrm>
        </p:grpSpPr>
        <p:sp>
          <p:nvSpPr>
            <p:cNvPr id="187" name="Freeform 19"/>
            <p:cNvSpPr/>
            <p:nvPr/>
          </p:nvSpPr>
          <p:spPr>
            <a:xfrm>
              <a:off x="4648320" y="3505320"/>
              <a:ext cx="291960" cy="29664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4648320" y="3505320"/>
              <a:ext cx="291960" cy="6804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>
              <a:off x="4871880" y="3505320"/>
              <a:ext cx="68400" cy="29664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22"/>
          <p:cNvGrpSpPr/>
          <p:nvPr/>
        </p:nvGrpSpPr>
        <p:grpSpPr>
          <a:xfrm>
            <a:off x="6248520" y="3657600"/>
            <a:ext cx="291960" cy="297000"/>
            <a:chOff x="6248520" y="3657600"/>
            <a:chExt cx="291960" cy="297000"/>
          </a:xfrm>
        </p:grpSpPr>
        <p:sp>
          <p:nvSpPr>
            <p:cNvPr id="191" name="Freeform 23"/>
            <p:cNvSpPr/>
            <p:nvPr/>
          </p:nvSpPr>
          <p:spPr>
            <a:xfrm>
              <a:off x="6248520" y="3657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6248520" y="3657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6472080" y="3657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26"/>
          <p:cNvGrpSpPr/>
          <p:nvPr/>
        </p:nvGrpSpPr>
        <p:grpSpPr>
          <a:xfrm>
            <a:off x="1600200" y="5257800"/>
            <a:ext cx="291960" cy="297000"/>
            <a:chOff x="1600200" y="5257800"/>
            <a:chExt cx="291960" cy="297000"/>
          </a:xfrm>
        </p:grpSpPr>
        <p:sp>
          <p:nvSpPr>
            <p:cNvPr id="195" name="Freeform 27"/>
            <p:cNvSpPr/>
            <p:nvPr/>
          </p:nvSpPr>
          <p:spPr>
            <a:xfrm>
              <a:off x="1600200" y="52578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1600200" y="52578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1824120" y="52578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30"/>
          <p:cNvGrpSpPr/>
          <p:nvPr/>
        </p:nvGrpSpPr>
        <p:grpSpPr>
          <a:xfrm>
            <a:off x="3352680" y="2743200"/>
            <a:ext cx="292320" cy="297000"/>
            <a:chOff x="3352680" y="2743200"/>
            <a:chExt cx="292320" cy="297000"/>
          </a:xfrm>
        </p:grpSpPr>
        <p:sp>
          <p:nvSpPr>
            <p:cNvPr id="199" name="Freeform 31"/>
            <p:cNvSpPr/>
            <p:nvPr/>
          </p:nvSpPr>
          <p:spPr>
            <a:xfrm>
              <a:off x="3352680" y="27432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32"/>
            <p:cNvSpPr/>
            <p:nvPr/>
          </p:nvSpPr>
          <p:spPr>
            <a:xfrm>
              <a:off x="3352680" y="27432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33"/>
            <p:cNvSpPr/>
            <p:nvPr/>
          </p:nvSpPr>
          <p:spPr>
            <a:xfrm>
              <a:off x="3576600" y="27432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34"/>
          <p:cNvGrpSpPr/>
          <p:nvPr/>
        </p:nvGrpSpPr>
        <p:grpSpPr>
          <a:xfrm>
            <a:off x="3886200" y="5181480"/>
            <a:ext cx="291960" cy="297000"/>
            <a:chOff x="3886200" y="5181480"/>
            <a:chExt cx="291960" cy="297000"/>
          </a:xfrm>
        </p:grpSpPr>
        <p:sp>
          <p:nvSpPr>
            <p:cNvPr id="203" name="Freeform 35"/>
            <p:cNvSpPr/>
            <p:nvPr/>
          </p:nvSpPr>
          <p:spPr>
            <a:xfrm>
              <a:off x="3886200" y="51814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3886200" y="51814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4110120" y="51814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38"/>
          <p:cNvGrpSpPr/>
          <p:nvPr/>
        </p:nvGrpSpPr>
        <p:grpSpPr>
          <a:xfrm>
            <a:off x="5486400" y="4800600"/>
            <a:ext cx="291960" cy="297000"/>
            <a:chOff x="5486400" y="4800600"/>
            <a:chExt cx="291960" cy="297000"/>
          </a:xfrm>
        </p:grpSpPr>
        <p:sp>
          <p:nvSpPr>
            <p:cNvPr id="207" name="Freeform 39"/>
            <p:cNvSpPr/>
            <p:nvPr/>
          </p:nvSpPr>
          <p:spPr>
            <a:xfrm>
              <a:off x="5486400" y="4800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5486400" y="4800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5710320" y="48006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42"/>
          <p:cNvGrpSpPr/>
          <p:nvPr/>
        </p:nvGrpSpPr>
        <p:grpSpPr>
          <a:xfrm>
            <a:off x="3048120" y="4572000"/>
            <a:ext cx="291960" cy="297000"/>
            <a:chOff x="3048120" y="4572000"/>
            <a:chExt cx="291960" cy="297000"/>
          </a:xfrm>
        </p:grpSpPr>
        <p:sp>
          <p:nvSpPr>
            <p:cNvPr id="211" name="Freeform 43"/>
            <p:cNvSpPr/>
            <p:nvPr/>
          </p:nvSpPr>
          <p:spPr>
            <a:xfrm>
              <a:off x="3048120" y="4572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44"/>
            <p:cNvSpPr/>
            <p:nvPr/>
          </p:nvSpPr>
          <p:spPr>
            <a:xfrm>
              <a:off x="3048120" y="4572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3271680" y="45720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Group 46"/>
          <p:cNvGrpSpPr/>
          <p:nvPr/>
        </p:nvGrpSpPr>
        <p:grpSpPr>
          <a:xfrm>
            <a:off x="5867280" y="1752480"/>
            <a:ext cx="292320" cy="297000"/>
            <a:chOff x="5867280" y="1752480"/>
            <a:chExt cx="292320" cy="297000"/>
          </a:xfrm>
        </p:grpSpPr>
        <p:sp>
          <p:nvSpPr>
            <p:cNvPr id="215" name="Freeform 47"/>
            <p:cNvSpPr/>
            <p:nvPr/>
          </p:nvSpPr>
          <p:spPr>
            <a:xfrm>
              <a:off x="5867280" y="175248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5867280" y="175248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49"/>
            <p:cNvSpPr/>
            <p:nvPr/>
          </p:nvSpPr>
          <p:spPr>
            <a:xfrm>
              <a:off x="6091200" y="175248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Line 50"/>
          <p:cNvSpPr/>
          <p:nvPr/>
        </p:nvSpPr>
        <p:spPr>
          <a:xfrm flipV="1">
            <a:off x="2133720" y="3033720"/>
            <a:ext cx="1220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1"/>
          <p:cNvSpPr/>
          <p:nvPr/>
        </p:nvSpPr>
        <p:spPr>
          <a:xfrm flipV="1">
            <a:off x="3657600" y="2576520"/>
            <a:ext cx="15238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52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 flipH="1">
            <a:off x="3414240" y="3048120"/>
            <a:ext cx="1047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 flipV="1">
            <a:off x="5410080" y="2043000"/>
            <a:ext cx="6876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 flipH="1">
            <a:off x="4862160" y="2819520"/>
            <a:ext cx="48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57"/>
          <p:cNvSpPr/>
          <p:nvPr/>
        </p:nvSpPr>
        <p:spPr>
          <a:xfrm flipH="1">
            <a:off x="3338280" y="3962520"/>
            <a:ext cx="3152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5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5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60"/>
          <p:cNvSpPr/>
          <p:nvPr/>
        </p:nvSpPr>
        <p:spPr>
          <a:xfrm flipH="1">
            <a:off x="4100040" y="3809880"/>
            <a:ext cx="7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61"/>
          <p:cNvSpPr/>
          <p:nvPr/>
        </p:nvSpPr>
        <p:spPr>
          <a:xfrm flipV="1">
            <a:off x="3124080" y="3871440"/>
            <a:ext cx="1526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62"/>
          <p:cNvSpPr/>
          <p:nvPr/>
        </p:nvSpPr>
        <p:spPr>
          <a:xfrm flipV="1">
            <a:off x="1676520" y="3719160"/>
            <a:ext cx="22860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63"/>
          <p:cNvSpPr/>
          <p:nvPr/>
        </p:nvSpPr>
        <p:spPr>
          <a:xfrm flipV="1">
            <a:off x="3505320" y="3566880"/>
            <a:ext cx="11430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64"/>
          <p:cNvSpPr/>
          <p:nvPr/>
        </p:nvSpPr>
        <p:spPr>
          <a:xfrm flipV="1">
            <a:off x="4191120" y="4862520"/>
            <a:ext cx="12967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65"/>
          <p:cNvSpPr/>
          <p:nvPr/>
        </p:nvSpPr>
        <p:spPr>
          <a:xfrm flipV="1">
            <a:off x="1905120" y="4862160"/>
            <a:ext cx="121896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66"/>
          <p:cNvSpPr/>
          <p:nvPr/>
        </p:nvSpPr>
        <p:spPr>
          <a:xfrm flipV="1">
            <a:off x="5638680" y="3948120"/>
            <a:ext cx="76212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3657600" y="1814400"/>
            <a:ext cx="2209680" cy="9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71"/>
          <p:cNvSpPr/>
          <p:nvPr/>
        </p:nvSpPr>
        <p:spPr>
          <a:xfrm flipV="1">
            <a:off x="6172200" y="1509840"/>
            <a:ext cx="1143000" cy="257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72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73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74"/>
          <p:cNvGrpSpPr/>
          <p:nvPr/>
        </p:nvGrpSpPr>
        <p:grpSpPr>
          <a:xfrm>
            <a:off x="7228800" y="4309920"/>
            <a:ext cx="1877760" cy="2303640"/>
            <a:chOff x="7228800" y="4309920"/>
            <a:chExt cx="1877760" cy="2303640"/>
          </a:xfrm>
        </p:grpSpPr>
        <p:sp>
          <p:nvSpPr>
            <p:cNvPr id="243" name="AutoShape 75"/>
            <p:cNvSpPr/>
            <p:nvPr/>
          </p:nvSpPr>
          <p:spPr>
            <a:xfrm>
              <a:off x="7232760" y="4309920"/>
              <a:ext cx="1644480" cy="2303640"/>
            </a:xfrm>
            <a:custGeom>
              <a:avLst/>
              <a:gdLst>
                <a:gd name="textAreaLeft" fmla="*/ 360 w 1644480"/>
                <a:gd name="textAreaRight" fmla="*/ 1644120 w 1644480"/>
                <a:gd name="textAreaTop" fmla="*/ 360 h 2303640"/>
                <a:gd name="textAreaBottom" fmla="*/ 2303280 h 2303640"/>
              </a:gdLst>
              <a:ahLst/>
              <a:rect l="textAreaLeft" t="textAreaTop" r="textAreaRight" b="textAreaBottom"/>
              <a:pathLst>
                <a:path w="21600" h="30256">
                  <a:moveTo>
                    <a:pt x="20" y="0"/>
                  </a:moveTo>
                  <a:arcTo wR="20" hR="20" stAng="16200000" swAng="-5400000"/>
                  <a:lnTo>
                    <a:pt x="0" y="30236"/>
                  </a:lnTo>
                  <a:arcTo wR="20" hR="20" stAng="10800000" swAng="-5400000"/>
                  <a:lnTo>
                    <a:pt x="21580" y="30256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AutoShape 76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549000"/>
            <a:ext cx="7765920" cy="307800"/>
            <a:chOff x="914400" y="549000"/>
            <a:chExt cx="7765920" cy="307800"/>
          </a:xfrm>
        </p:grpSpPr>
        <p:sp>
          <p:nvSpPr>
            <p:cNvPr id="248" name="Line 4"/>
            <p:cNvSpPr/>
            <p:nvPr/>
          </p:nvSpPr>
          <p:spPr>
            <a:xfrm>
              <a:off x="914400" y="8521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0320" y="54900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Group 6"/>
          <p:cNvGrpSpPr/>
          <p:nvPr/>
        </p:nvGrpSpPr>
        <p:grpSpPr>
          <a:xfrm>
            <a:off x="1981080" y="3352680"/>
            <a:ext cx="451080" cy="528840"/>
            <a:chOff x="1981080" y="3352680"/>
            <a:chExt cx="451080" cy="528840"/>
          </a:xfrm>
        </p:grpSpPr>
        <p:sp>
          <p:nvSpPr>
            <p:cNvPr id="251" name="Freeform 7"/>
            <p:cNvSpPr/>
            <p:nvPr/>
          </p:nvSpPr>
          <p:spPr>
            <a:xfrm>
              <a:off x="1981080" y="335268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2111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2590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084400" y="3735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4572000" y="1371600"/>
            <a:ext cx="450720" cy="528480"/>
            <a:chOff x="4572000" y="1371600"/>
            <a:chExt cx="450720" cy="528480"/>
          </a:xfrm>
        </p:grpSpPr>
        <p:sp>
          <p:nvSpPr>
            <p:cNvPr id="256" name="Freeform 12"/>
            <p:cNvSpPr/>
            <p:nvPr/>
          </p:nvSpPr>
          <p:spPr>
            <a:xfrm>
              <a:off x="4572000" y="137160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47023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48499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4675320" y="17542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Line 16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8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272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275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1"/>
          <p:cNvGrpSpPr/>
          <p:nvPr/>
        </p:nvGrpSpPr>
        <p:grpSpPr>
          <a:xfrm>
            <a:off x="4570560" y="1370160"/>
            <a:ext cx="450720" cy="528480"/>
            <a:chOff x="4570560" y="1370160"/>
            <a:chExt cx="450720" cy="528480"/>
          </a:xfrm>
        </p:grpSpPr>
        <p:sp>
          <p:nvSpPr>
            <p:cNvPr id="280" name="Freeform 12"/>
            <p:cNvSpPr/>
            <p:nvPr/>
          </p:nvSpPr>
          <p:spPr>
            <a:xfrm>
              <a:off x="4570560" y="13701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47005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48481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4675320" y="17524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16"/>
          <p:cNvGrpSpPr/>
          <p:nvPr/>
        </p:nvGrpSpPr>
        <p:grpSpPr>
          <a:xfrm>
            <a:off x="4875120" y="2360520"/>
            <a:ext cx="451080" cy="528840"/>
            <a:chOff x="4875120" y="2360520"/>
            <a:chExt cx="451080" cy="528840"/>
          </a:xfrm>
        </p:grpSpPr>
        <p:sp>
          <p:nvSpPr>
            <p:cNvPr id="285" name="Freeform 17"/>
            <p:cNvSpPr/>
            <p:nvPr/>
          </p:nvSpPr>
          <p:spPr>
            <a:xfrm>
              <a:off x="4875120" y="2360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50054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51530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4979880" y="2744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4494240" y="5484960"/>
            <a:ext cx="450720" cy="528480"/>
            <a:chOff x="4494240" y="5484960"/>
            <a:chExt cx="450720" cy="528480"/>
          </a:xfrm>
        </p:grpSpPr>
        <p:sp>
          <p:nvSpPr>
            <p:cNvPr id="290" name="Freeform 22"/>
            <p:cNvSpPr/>
            <p:nvPr/>
          </p:nvSpPr>
          <p:spPr>
            <a:xfrm>
              <a:off x="4494240" y="54849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3"/>
            <p:cNvSpPr/>
            <p:nvPr/>
          </p:nvSpPr>
          <p:spPr>
            <a:xfrm>
              <a:off x="46245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4"/>
            <p:cNvSpPr/>
            <p:nvPr/>
          </p:nvSpPr>
          <p:spPr>
            <a:xfrm>
              <a:off x="47721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4599000" y="58672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5103720" y="3427560"/>
            <a:ext cx="451080" cy="528480"/>
            <a:chOff x="5103720" y="3427560"/>
            <a:chExt cx="451080" cy="528480"/>
          </a:xfrm>
        </p:grpSpPr>
        <p:sp>
          <p:nvSpPr>
            <p:cNvPr id="295" name="Freeform 27"/>
            <p:cNvSpPr/>
            <p:nvPr/>
          </p:nvSpPr>
          <p:spPr>
            <a:xfrm>
              <a:off x="5103720" y="3427560"/>
              <a:ext cx="45108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28"/>
            <p:cNvSpPr/>
            <p:nvPr/>
          </p:nvSpPr>
          <p:spPr>
            <a:xfrm>
              <a:off x="52340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29"/>
            <p:cNvSpPr/>
            <p:nvPr/>
          </p:nvSpPr>
          <p:spPr>
            <a:xfrm>
              <a:off x="53816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30"/>
            <p:cNvSpPr/>
            <p:nvPr/>
          </p:nvSpPr>
          <p:spPr>
            <a:xfrm>
              <a:off x="5208480" y="380988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31"/>
          <p:cNvGrpSpPr/>
          <p:nvPr/>
        </p:nvGrpSpPr>
        <p:grpSpPr>
          <a:xfrm>
            <a:off x="4875120" y="4646520"/>
            <a:ext cx="451080" cy="528840"/>
            <a:chOff x="4875120" y="4646520"/>
            <a:chExt cx="451080" cy="528840"/>
          </a:xfrm>
        </p:grpSpPr>
        <p:sp>
          <p:nvSpPr>
            <p:cNvPr id="300" name="Freeform 32"/>
            <p:cNvSpPr/>
            <p:nvPr/>
          </p:nvSpPr>
          <p:spPr>
            <a:xfrm>
              <a:off x="4875120" y="4646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33"/>
            <p:cNvSpPr/>
            <p:nvPr/>
          </p:nvSpPr>
          <p:spPr>
            <a:xfrm>
              <a:off x="50054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34"/>
            <p:cNvSpPr/>
            <p:nvPr/>
          </p:nvSpPr>
          <p:spPr>
            <a:xfrm>
              <a:off x="51530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35"/>
            <p:cNvSpPr/>
            <p:nvPr/>
          </p:nvSpPr>
          <p:spPr>
            <a:xfrm>
              <a:off x="4979880" y="5030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Line 3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3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3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4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reeform 4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43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15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318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Line 11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12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17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38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Line 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cc0000"/>
                </a:solidFill>
                <a:latin typeface="Arial"/>
              </a:rPr>
              <a:t>Automaatliide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Picture 12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5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6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51" name="Freeform 17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19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57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Line 6"/>
          <p:cNvSpPr/>
          <p:nvPr/>
        </p:nvSpPr>
        <p:spPr>
          <a:xfrm flipV="1">
            <a:off x="1903320" y="2728440"/>
            <a:ext cx="228600" cy="939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 flipV="1">
            <a:off x="243684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Picture 10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4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16"/>
          <p:cNvGrpSpPr/>
          <p:nvPr/>
        </p:nvGrpSpPr>
        <p:grpSpPr>
          <a:xfrm>
            <a:off x="1598760" y="3732120"/>
            <a:ext cx="450720" cy="528840"/>
            <a:chOff x="1598760" y="3732120"/>
            <a:chExt cx="450720" cy="528840"/>
          </a:xfrm>
        </p:grpSpPr>
        <p:sp>
          <p:nvSpPr>
            <p:cNvPr id="370" name="Freeform 17"/>
            <p:cNvSpPr/>
            <p:nvPr/>
          </p:nvSpPr>
          <p:spPr>
            <a:xfrm>
              <a:off x="1598760" y="3732120"/>
              <a:ext cx="45072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18"/>
            <p:cNvSpPr/>
            <p:nvPr/>
          </p:nvSpPr>
          <p:spPr>
            <a:xfrm>
              <a:off x="1728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9"/>
            <p:cNvSpPr/>
            <p:nvPr/>
          </p:nvSpPr>
          <p:spPr>
            <a:xfrm>
              <a:off x="18763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1703520" y="411624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Line 21"/>
          <p:cNvSpPr/>
          <p:nvPr/>
        </p:nvSpPr>
        <p:spPr>
          <a:xfrm flipV="1">
            <a:off x="2057400" y="3719520"/>
            <a:ext cx="3886200" cy="101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22"/>
          <p:cNvSpPr/>
          <p:nvPr/>
        </p:nvSpPr>
        <p:spPr>
          <a:xfrm flipH="1">
            <a:off x="6539040" y="2894040"/>
            <a:ext cx="9396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23"/>
          <p:cNvSpPr/>
          <p:nvPr/>
        </p:nvSpPr>
        <p:spPr>
          <a:xfrm flipH="1">
            <a:off x="7453440" y="30463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24"/>
          <p:cNvSpPr/>
          <p:nvPr/>
        </p:nvSpPr>
        <p:spPr>
          <a:xfrm flipH="1">
            <a:off x="6005160" y="4417920"/>
            <a:ext cx="12445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sv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8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387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94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401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06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408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14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416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428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435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9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0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442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8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450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46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466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475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484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493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502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512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16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518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523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528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2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534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4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5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52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5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6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7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576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580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585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590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595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608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9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610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3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614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619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624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629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3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635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6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637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0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641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646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651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656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0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662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3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664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7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668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673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678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683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7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8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689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0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691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94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695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700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705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710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4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716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7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718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1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722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727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732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737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1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2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743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4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745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8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749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754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759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764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8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1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772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5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776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0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781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782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787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792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96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798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6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807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3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814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819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824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0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831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836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841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7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848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853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858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4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865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870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875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1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882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887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could think tha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do have AI already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in some sen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s similar t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3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894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96" name="Picture 1" descr=""/>
          <p:cNvPicPr/>
          <p:nvPr/>
        </p:nvPicPr>
        <p:blipFill>
          <a:blip r:embed="rId1"/>
          <a:stretch/>
        </p:blipFill>
        <p:spPr>
          <a:xfrm>
            <a:off x="5108400" y="1727280"/>
            <a:ext cx="350208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tsents on lihtsalt ühepoolne „võta-või-jäta“ leping, et kuidas tarkvara tohib kasutad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mertslitsentsid on väga mitmekesised: igaüks kirjutab endale sobiv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 on vahel dual-licenced: valid, kas kasutad piirangutega vabavarana või teistsuguste piirangutega kommertslitsentsig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litsentside hulgas on mitmed rohkem/vähem vabad kategooriad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ata ka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s://www.gnu.org/licenses/license-list.htm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0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0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1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1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eesmärgid: lihtsus mitmekesisu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 või vscod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10-14T15:35:26Z</dcterms:modified>
  <cp:revision>49</cp:revision>
  <dc:subject/>
  <dc:title>No Slide Title</dc:title>
</cp:coreProperties>
</file>